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5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CBF9-662D-4D10-8C33-4510130F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FC3C-D3D4-421E-82C3-D655AE1F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BC55-DC1A-42AC-8491-828493FA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89A-88D9-405A-8149-75B7FB76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483E-3839-44E5-AF5D-318967EC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9ED-E1F0-4484-8057-A3F93784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D183-2C7E-41E0-BB98-DC0F328A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DEEB-7EBF-4484-BEB3-4FAACB1C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6B1E-3A80-4B78-BDF2-2FF5D343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3905-2A5D-4638-984B-D4C60B51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EF4-63AC-4D28-84FF-2F6FA14B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68D6-0A85-4702-81CB-2174E9A4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CDD6-CCB6-4D86-96A3-CE48206C954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2BF9-24C6-4664-81DD-A960AA92DD0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1628640"/>
            <a:ext cx="6681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Total Quality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43440" y="407160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avy Montico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A41-5D5D-44A4-8EE2-D9A4BAD642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Appliquer toutes les facettes de la quali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5184720" cy="50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8CAE-1BFE-4C52-B12C-C713A12B6B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Les obsta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2268360" y="1700280"/>
            <a:ext cx="6120000" cy="492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CF9-3719-4705-90C5-69C084F720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Comment faire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3959280" cy="5045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427640" y="2924280"/>
            <a:ext cx="439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olitique de qualité tot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Valeurs qui faut respecter: declarer le controle qualite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haque personne est responsible de la qualité et de ce qu’il fa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19640" y="4005360"/>
            <a:ext cx="4751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Responsaible de service qui vont diffuser le plan qualit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6308640"/>
            <a:ext cx="129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jet pil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5D17-DBF6-408E-B795-DA6AF462E9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Comité de pilotage ou conseil quali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2268360" y="1628640"/>
            <a:ext cx="4896000" cy="509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1BC4-35E1-47B6-ADB2-BC60F70E7D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Les concepts clés de votre politique quali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4535280" cy="3349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4788000" y="1989000"/>
            <a:ext cx="4356000" cy="3413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093080" y="4221000"/>
            <a:ext cx="1728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nées retour 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8561-E758-4799-B55B-7411ED1C05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e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5472000" cy="1296720"/>
          </a:xfrm>
          <a:prstGeom prst="rect">
            <a:avLst/>
          </a:prstGeom>
          <a:ln w="0">
            <a:noFill/>
          </a:ln>
        </p:spPr>
      </p:pic>
      <p:sp>
        <p:nvSpPr>
          <p:cNvPr id="78" name="ZoneTexte 5"/>
          <p:cNvSpPr/>
          <p:nvPr/>
        </p:nvSpPr>
        <p:spPr>
          <a:xfrm>
            <a:off x="545760" y="32130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SG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2676600" y="4221000"/>
            <a:ext cx="6072120" cy="237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4"/>
          <a:stretch/>
        </p:blipFill>
        <p:spPr>
          <a:xfrm>
            <a:off x="2771640" y="3933720"/>
            <a:ext cx="1152720" cy="41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5975-247F-48E8-A0AF-6845920A5B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olitique Quali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6424920" cy="32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4997-1057-4FD1-99B0-02354BD3E5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lanification stratégique quali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116000" y="1700280"/>
            <a:ext cx="5327640" cy="4983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788000" y="1700280"/>
            <a:ext cx="316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but de la mission : Zero defauts, être le LEADER des entreprise dans un certain domain,e 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80000" y="2637000"/>
            <a:ext cx="194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ecter les delais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 depasser certains c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9297-45A5-47ED-A9AF-0248143BDD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Calibri"/>
              </a:rPr>
              <a:t>Demarche de mise en place de TQ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2627280" y="1700280"/>
            <a:ext cx="3384720" cy="4881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1700280"/>
            <a:ext cx="144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ude de c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429264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n est ou par rapport à l’objectif initia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4797360"/>
            <a:ext cx="392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lan d’action pour eviter le sec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18E8-D7C2-49C5-B5B3-CEC982926E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tude de cas BoisTe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Entreprise réelle Quebeco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Description des processus, des ressources humaines, des disfonctionn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Objectif : se mettre à la place d’un consultant qualité p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Faire le diagnostique de l’entrepr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Proposer une démarche qualité tot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Mission, stratégie, recommandation, échéancier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https://encrypted-tbn3.google.com/images?q=tbn:ANd9GcRoH8lpdsIPP-Q-tSVu3tF9S9sV4GzAKDIROCRB-gxjq0JLziPotg"/>
          <p:cNvPicPr/>
          <p:nvPr/>
        </p:nvPicPr>
        <p:blipFill>
          <a:blip r:embed="rId2"/>
          <a:stretch/>
        </p:blipFill>
        <p:spPr>
          <a:xfrm>
            <a:off x="0" y="404640"/>
            <a:ext cx="1908000" cy="1119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https://encrypted-tbn0.google.com/images?q=tbn:ANd9GcQJA_uRrMfhlrBkgoSfEh5bIicqM9i8GwVZGouq3hN6JIezRjVHAw"/>
          <p:cNvPicPr/>
          <p:nvPr/>
        </p:nvPicPr>
        <p:blipFill>
          <a:blip r:embed="rId3"/>
          <a:stretch/>
        </p:blipFill>
        <p:spPr>
          <a:xfrm>
            <a:off x="0" y="2421000"/>
            <a:ext cx="194796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https://encrypted-tbn3.google.com/images?q=tbn:ANd9GcSBuUAd_jGTGxUJBM2oMODXg_VB_UZ9vE31FVjzHMtdrs7kitufDw"/>
          <p:cNvPicPr/>
          <p:nvPr/>
        </p:nvPicPr>
        <p:blipFill>
          <a:blip r:embed="rId4"/>
          <a:stretch/>
        </p:blipFill>
        <p:spPr>
          <a:xfrm>
            <a:off x="0" y="4581360"/>
            <a:ext cx="1930320" cy="12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1B38-984B-4A58-A613-7493820CD3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QSE2 - Déroul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M1 : Qualité To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M2 : Outils Statistiques pour la Qualité (P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M 3 : Normes &amp; Aud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M4 : Outils Statistiques pour la Qualité (P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s d’étude : 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Bois Tech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– Déploiement de votre démarche qualité to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Expérimentation : 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catapul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C204-4873-4444-AC70-BD3E72920D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QSE2 -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Notes de groupe à rendre sur le rapport de l’étude de Cas Bois Tech + Présentation (6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Examen Final (4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1EF8-3313-467F-AEFB-F88DE3BA7F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Réfé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« Construisez votre qualité. Toutes les clés pour une démarche qualité gagnante, 2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ème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édition » P. Longin, H. Denet, Dun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7D2E-BDEE-4562-907E-C46C615222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1332000" y="1916280"/>
            <a:ext cx="5972040" cy="2017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324000" y="4292640"/>
            <a:ext cx="5832360" cy="1173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4"/>
          <a:stretch/>
        </p:blipFill>
        <p:spPr>
          <a:xfrm>
            <a:off x="3564000" y="5732640"/>
            <a:ext cx="5292720" cy="43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858E-48E9-4A18-9B9E-084BAF685A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Démarc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1979640" y="1773360"/>
            <a:ext cx="5832360" cy="445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07E-C963-4B54-8814-02B6FD6D79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SIX Principes du TQ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2556000" y="1628640"/>
            <a:ext cx="4680000" cy="503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8A43-ADCF-4CFC-8A5C-BFB22CD895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SIX Principes du TQM (sui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2268360" y="1628640"/>
            <a:ext cx="4824720" cy="507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DD1F-2C57-4699-9FA0-D2774AD8A2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Les pièges pour le nouveau responsable quali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2411280" y="1650960"/>
            <a:ext cx="4176720" cy="520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B676-8A11-4393-81A4-B981FB0301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1:31:06Z</dcterms:created>
  <dc:creator>dmontico</dc:creator>
  <dc:description/>
  <dc:language>en-US</dc:language>
  <cp:lastModifiedBy>simonam</cp:lastModifiedBy>
  <dcterms:modified xsi:type="dcterms:W3CDTF">2013-04-15T11:28:33Z</dcterms:modified>
  <cp:revision>22</cp:revision>
  <dc:subject/>
  <dc:title>PRESENTATION  NAME</dc:title>
</cp:coreProperties>
</file>